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0B0-DBB4-4441-89BE-7080D983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50C-B8DC-4D1B-B287-5AD0482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87D-7635-40AD-B21B-9AA93510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EB0-1893-495E-BDC8-468D6F38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5D0-6894-4F5C-A9DC-E9064E46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883-B599-42E7-BD31-73CF7070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9E9-2D62-4AD9-A4ED-9F35C980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BFD-A75F-4ED9-B7C4-8E10ED6D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438-01BC-4D09-9E49-80BB88AA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55E-F25A-44E3-8346-2570FCD9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2B3-5838-4CCB-933E-5A39027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8E9-631A-4F9C-BD99-9ACF1381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1743-04B4-4B94-A54D-7F7E7F3A6BE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0.xml"/><Relationship Id="rId9" Type="http://schemas.openxmlformats.org/officeDocument/2006/relationships/slide" Target="slide13.xml"/><Relationship Id="rId10" Type="http://schemas.openxmlformats.org/officeDocument/2006/relationships/slide" Target="slide11.xml"/><Relationship Id="rId11" Type="http://schemas.openxmlformats.org/officeDocument/2006/relationships/slide" Target="slide9.xml"/><Relationship Id="rId12" Type="http://schemas.openxmlformats.org/officeDocument/2006/relationships/slide" Target="slide15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 the number puzz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ench-maths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87280" y="1916280"/>
          <a:ext cx="2304720" cy="2160000"/>
        </p:xfrm>
        <a:graphic>
          <a:graphicData uri="http://schemas.openxmlformats.org/drawingml/2006/table">
            <a:tbl>
              <a:tblPr/>
              <a:tblGrid>
                <a:gridCol w="766800"/>
                <a:gridCol w="770760"/>
                <a:gridCol w="767160"/>
              </a:tblGrid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5796000" y="1701720"/>
            <a:ext cx="57456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3141720"/>
            <a:ext cx="57456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5280" y="3141720"/>
            <a:ext cx="57456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4438800"/>
            <a:ext cx="57456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365720"/>
            <a:ext cx="5749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2920" y="4365720"/>
            <a:ext cx="5749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Number Ti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40384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numbers 1 to 9 onto the squares so that they make a correct addition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1268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126828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1268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356000" y="4581360"/>
            <a:ext cx="460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6165720"/>
            <a:ext cx="46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52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rithmagon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3106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in the square is the sum of the two circ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lace the corr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421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551664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373720"/>
            <a:ext cx="1079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859280" y="3429000"/>
            <a:ext cx="1225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59500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732360" y="3357360"/>
            <a:ext cx="136836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137200">
            <a:off x="4876560" y="3933720"/>
            <a:ext cx="115236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594200">
            <a:off x="6948000" y="3933720"/>
            <a:ext cx="115272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5516640"/>
            <a:ext cx="1152720" cy="9349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2072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2492280"/>
            <a:ext cx="7905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6524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rithmagon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3106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in the square is the sum of the two circ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lace the corr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2421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551664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5373720"/>
            <a:ext cx="1079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3429000"/>
            <a:ext cx="1225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59500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6732360" y="3357360"/>
            <a:ext cx="136836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137200">
            <a:off x="4876560" y="3933720"/>
            <a:ext cx="115236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9594200">
            <a:off x="6948000" y="3933720"/>
            <a:ext cx="115272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5516640"/>
            <a:ext cx="1152720" cy="9349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2072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2492280"/>
            <a:ext cx="7905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6524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rithmagon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3106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in the square is the sum of the two circ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lace the corr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2421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40720" y="551664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67280" y="5373720"/>
            <a:ext cx="1079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59280" y="3429000"/>
            <a:ext cx="1225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48360" y="59500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732360" y="3357360"/>
            <a:ext cx="136836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2137200">
            <a:off x="4876560" y="3933720"/>
            <a:ext cx="115236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9594200">
            <a:off x="6948000" y="3933720"/>
            <a:ext cx="115272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5516640"/>
            <a:ext cx="1152720" cy="9349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2072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8764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2492280"/>
            <a:ext cx="7905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6524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rithmagon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3106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in the square is the sum of the two circ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lace the corr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2421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551664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67280" y="5373720"/>
            <a:ext cx="1079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859280" y="3429000"/>
            <a:ext cx="1225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8360" y="59500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732360" y="3357360"/>
            <a:ext cx="136836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2137200">
            <a:off x="4876560" y="3933720"/>
            <a:ext cx="115236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9594200">
            <a:off x="6948000" y="3933720"/>
            <a:ext cx="115272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5516640"/>
            <a:ext cx="1152720" cy="9349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2072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8764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2492280"/>
            <a:ext cx="7905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524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to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1200" y="1306800"/>
            <a:ext cx="6363000" cy="5410800"/>
            <a:chOff x="151200" y="1306800"/>
            <a:chExt cx="6363000" cy="5410800"/>
          </a:xfrm>
        </p:grpSpPr>
        <p:sp>
          <p:nvSpPr>
            <p:cNvPr id="254" name="_s15365"/>
            <p:cNvSpPr/>
            <p:nvPr/>
          </p:nvSpPr>
          <p:spPr>
            <a:xfrm flipH="1" flipV="1">
              <a:off x="2066400" y="1968840"/>
              <a:ext cx="655200" cy="179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5366"/>
            <p:cNvSpPr/>
            <p:nvPr/>
          </p:nvSpPr>
          <p:spPr>
            <a:xfrm>
              <a:off x="1712880" y="14544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367"/>
            <p:cNvSpPr/>
            <p:nvPr/>
          </p:nvSpPr>
          <p:spPr>
            <a:xfrm flipH="1" flipV="1">
              <a:off x="1414440" y="2347560"/>
              <a:ext cx="1227240" cy="14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368"/>
            <p:cNvSpPr/>
            <p:nvPr/>
          </p:nvSpPr>
          <p:spPr>
            <a:xfrm>
              <a:off x="981720" y="18792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369"/>
            <p:cNvSpPr/>
            <p:nvPr/>
          </p:nvSpPr>
          <p:spPr>
            <a:xfrm flipH="1" flipV="1">
              <a:off x="932040" y="2926080"/>
              <a:ext cx="1650960" cy="95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370"/>
            <p:cNvSpPr/>
            <p:nvPr/>
          </p:nvSpPr>
          <p:spPr>
            <a:xfrm>
              <a:off x="439560" y="252972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371"/>
            <p:cNvSpPr/>
            <p:nvPr/>
          </p:nvSpPr>
          <p:spPr>
            <a:xfrm flipH="1" flipV="1">
              <a:off x="675360" y="3636360"/>
              <a:ext cx="1875240" cy="32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372"/>
            <p:cNvSpPr/>
            <p:nvPr/>
          </p:nvSpPr>
          <p:spPr>
            <a:xfrm>
              <a:off x="151200" y="332532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373"/>
            <p:cNvSpPr/>
            <p:nvPr/>
          </p:nvSpPr>
          <p:spPr>
            <a:xfrm flipH="1">
              <a:off x="675360" y="4057560"/>
              <a:ext cx="187524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374"/>
            <p:cNvSpPr/>
            <p:nvPr/>
          </p:nvSpPr>
          <p:spPr>
            <a:xfrm>
              <a:off x="151200" y="417276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375"/>
            <p:cNvSpPr/>
            <p:nvPr/>
          </p:nvSpPr>
          <p:spPr>
            <a:xfrm flipH="1">
              <a:off x="933840" y="4142880"/>
              <a:ext cx="1648440" cy="95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376"/>
            <p:cNvSpPr/>
            <p:nvPr/>
          </p:nvSpPr>
          <p:spPr>
            <a:xfrm>
              <a:off x="441360" y="496872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377"/>
            <p:cNvSpPr/>
            <p:nvPr/>
          </p:nvSpPr>
          <p:spPr>
            <a:xfrm flipH="1">
              <a:off x="1418760" y="4213080"/>
              <a:ext cx="1221480" cy="146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378"/>
            <p:cNvSpPr/>
            <p:nvPr/>
          </p:nvSpPr>
          <p:spPr>
            <a:xfrm>
              <a:off x="983880" y="56170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379"/>
            <p:cNvSpPr/>
            <p:nvPr/>
          </p:nvSpPr>
          <p:spPr>
            <a:xfrm flipH="1">
              <a:off x="2070360" y="4258800"/>
              <a:ext cx="649440" cy="17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380"/>
            <p:cNvSpPr/>
            <p:nvPr/>
          </p:nvSpPr>
          <p:spPr>
            <a:xfrm>
              <a:off x="1715040" y="60400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381"/>
            <p:cNvSpPr/>
            <p:nvPr/>
          </p:nvSpPr>
          <p:spPr>
            <a:xfrm>
              <a:off x="2809080" y="4274640"/>
              <a:ext cx="2160" cy="19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5382"/>
            <p:cNvSpPr/>
            <p:nvPr/>
          </p:nvSpPr>
          <p:spPr>
            <a:xfrm>
              <a:off x="2547000" y="618732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15385"/>
            <p:cNvSpPr/>
            <p:nvPr/>
          </p:nvSpPr>
          <p:spPr>
            <a:xfrm>
              <a:off x="2898720" y="4258800"/>
              <a:ext cx="653400" cy="179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5386"/>
            <p:cNvSpPr/>
            <p:nvPr/>
          </p:nvSpPr>
          <p:spPr>
            <a:xfrm>
              <a:off x="3379680" y="60400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5387"/>
            <p:cNvSpPr/>
            <p:nvPr/>
          </p:nvSpPr>
          <p:spPr>
            <a:xfrm>
              <a:off x="2978280" y="4213080"/>
              <a:ext cx="1225440" cy="14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5388"/>
            <p:cNvSpPr/>
            <p:nvPr/>
          </p:nvSpPr>
          <p:spPr>
            <a:xfrm>
              <a:off x="4110840" y="56152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15389"/>
            <p:cNvSpPr/>
            <p:nvPr/>
          </p:nvSpPr>
          <p:spPr>
            <a:xfrm>
              <a:off x="3035880" y="4142880"/>
              <a:ext cx="1650960" cy="95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5390"/>
            <p:cNvSpPr/>
            <p:nvPr/>
          </p:nvSpPr>
          <p:spPr>
            <a:xfrm>
              <a:off x="4653000" y="496476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5391"/>
            <p:cNvSpPr/>
            <p:nvPr/>
          </p:nvSpPr>
          <p:spPr>
            <a:xfrm>
              <a:off x="3067920" y="4057560"/>
              <a:ext cx="187488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15392"/>
            <p:cNvSpPr/>
            <p:nvPr/>
          </p:nvSpPr>
          <p:spPr>
            <a:xfrm>
              <a:off x="4941000" y="41670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5393"/>
            <p:cNvSpPr/>
            <p:nvPr/>
          </p:nvSpPr>
          <p:spPr>
            <a:xfrm flipV="1">
              <a:off x="3067920" y="3632040"/>
              <a:ext cx="1874880" cy="33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5394"/>
            <p:cNvSpPr/>
            <p:nvPr/>
          </p:nvSpPr>
          <p:spPr>
            <a:xfrm>
              <a:off x="4939200" y="33192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5395"/>
            <p:cNvSpPr/>
            <p:nvPr/>
          </p:nvSpPr>
          <p:spPr>
            <a:xfrm flipV="1">
              <a:off x="3035880" y="2921760"/>
              <a:ext cx="1648440" cy="95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5396"/>
            <p:cNvSpPr/>
            <p:nvPr/>
          </p:nvSpPr>
          <p:spPr>
            <a:xfrm>
              <a:off x="4649040" y="252324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397"/>
            <p:cNvSpPr/>
            <p:nvPr/>
          </p:nvSpPr>
          <p:spPr>
            <a:xfrm flipV="1">
              <a:off x="2976480" y="2343960"/>
              <a:ext cx="1223280" cy="146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398"/>
            <p:cNvSpPr/>
            <p:nvPr/>
          </p:nvSpPr>
          <p:spPr>
            <a:xfrm>
              <a:off x="4104720" y="18748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399"/>
            <p:cNvSpPr/>
            <p:nvPr/>
          </p:nvSpPr>
          <p:spPr>
            <a:xfrm flipV="1">
              <a:off x="2896560" y="1967040"/>
              <a:ext cx="651600" cy="179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00"/>
            <p:cNvSpPr/>
            <p:nvPr/>
          </p:nvSpPr>
          <p:spPr>
            <a:xfrm>
              <a:off x="3373560" y="145224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01"/>
            <p:cNvSpPr/>
            <p:nvPr/>
          </p:nvSpPr>
          <p:spPr>
            <a:xfrm flipV="1">
              <a:off x="2807280" y="1837440"/>
              <a:ext cx="0" cy="191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02"/>
            <p:cNvSpPr/>
            <p:nvPr/>
          </p:nvSpPr>
          <p:spPr>
            <a:xfrm>
              <a:off x="2543040" y="13068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03"/>
            <p:cNvSpPr/>
            <p:nvPr/>
          </p:nvSpPr>
          <p:spPr>
            <a:xfrm>
              <a:off x="2543040" y="374976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1640" y="2637360"/>
              <a:ext cx="502560" cy="50400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1640" y="3859920"/>
              <a:ext cx="502560" cy="50472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1640" y="3213360"/>
              <a:ext cx="502560" cy="50472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11640" y="4507920"/>
              <a:ext cx="502560" cy="50472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1640" y="5084640"/>
              <a:ext cx="502560" cy="50400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1640" y="5733000"/>
              <a:ext cx="502560" cy="50652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451640" y="57340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2000" y="386064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450864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2000" y="508464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2000" y="57340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263700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32720" y="386064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32720" y="321300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2720" y="450864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508464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57340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51640" y="328464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51640" y="263700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451640" y="39322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451640" y="450864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515772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101080" y="57340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046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numbers from 1 through 19 in the circles so that the numbers in every 3 circles on a straight line total 3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can either be displayed for a whole class on a smart board or data proj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uld be given the file and “play” with each puzzle in edit mode by selecting and moving the textboxes containing the numbers. (they can’t move the numbers in view-show m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295200"/>
            <a:ext cx="8496000" cy="62676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55640" y="19162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2916360" y="19162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003640" y="191628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236000" y="19162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900000" y="4005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826920" y="609300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5219640" y="4005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2843280" y="6093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7093080" y="4005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2771640" y="4005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7596360" y="6165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3" action="ppaction://hlinksldjump"/>
          </p:cNvPr>
          <p:cNvSpPr/>
          <p:nvPr/>
        </p:nvSpPr>
        <p:spPr>
          <a:xfrm>
            <a:off x="5076720" y="6093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the numbers 1 to 7, once only so that all three lines have the same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many different possibilitie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e that 6 and 7 cannot be in the sam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e that the centre of the H must be 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19640" y="2276640"/>
          <a:ext cx="3467160" cy="4105080"/>
        </p:xfrm>
        <a:graphic>
          <a:graphicData uri="http://schemas.openxmlformats.org/drawingml/2006/table">
            <a:tbl>
              <a:tblPr/>
              <a:tblGrid>
                <a:gridCol w="1155600"/>
                <a:gridCol w="1155960"/>
                <a:gridCol w="115560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611280" y="105264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28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CROSS C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 numbers 1 to 6,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ow of 3 must add up to the column of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e that the centre number must be 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different solution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932360" y="2133720"/>
          <a:ext cx="3754440" cy="3992400"/>
        </p:xfrm>
        <a:graphic>
          <a:graphicData uri="http://schemas.openxmlformats.org/drawingml/2006/table">
            <a:tbl>
              <a:tblPr/>
              <a:tblGrid>
                <a:gridCol w="1251360"/>
                <a:gridCol w="1251720"/>
                <a:gridCol w="125136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836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IT ADDS UP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 numbers 1 to 5,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ow of 3 must add up to the column of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e that the centre number must be 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different solution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76720" y="2421000"/>
          <a:ext cx="3610080" cy="3705120"/>
        </p:xfrm>
        <a:graphic>
          <a:graphicData uri="http://schemas.openxmlformats.org/drawingml/2006/table">
            <a:tbl>
              <a:tblPr/>
              <a:tblGrid>
                <a:gridCol w="1203120"/>
                <a:gridCol w="1203480"/>
                <a:gridCol w="1203480"/>
              </a:tblGrid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EQUALIZ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 numbers 1 to 6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 totals must b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that there are only 4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e that the numbers 1 and 6 must b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6360" y="220500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0" y="364500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3645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494172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4869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4869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DEDUCT &amp; DEDU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numbers 1 to 6 once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circle is the positive difference between the two circles below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e that there are only four different ways of doing this if reflections are not cou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220500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364500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3645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494172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85080" y="4869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94172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64000" y="4652640"/>
            <a:ext cx="287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13520" y="3281040"/>
            <a:ext cx="287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93080" y="4723920"/>
            <a:ext cx="287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4653000"/>
            <a:ext cx="28908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4653000"/>
            <a:ext cx="28908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3284640"/>
            <a:ext cx="28872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Number Go R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40384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ce the numbers 1 to 8 in each space so that all sums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1268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126828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1268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484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638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37:48Z</dcterms:created>
  <dc:creator>LHCA</dc:creator>
  <dc:description/>
  <dc:language>en-US</dc:language>
  <cp:lastModifiedBy>AdamsD</cp:lastModifiedBy>
  <dcterms:modified xsi:type="dcterms:W3CDTF">2011-06-06T05:40:22Z</dcterms:modified>
  <cp:revision>4</cp:revision>
  <dc:subject/>
  <dc:title>Place the number puzzles</dc:title>
</cp:coreProperties>
</file>